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129-998F-4393-8844-0C33ABA7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526-36DB-4DF8-8126-68778FC9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564-514C-4A4E-B56D-F0DA52AB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685-1A78-41BB-BE67-5EC7F9E4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6C6-96E9-40B2-8E19-D6063C5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8CD-3259-48F6-BFC1-DAA344B9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DCB-12FA-428B-AFB2-E480AF32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71E-C682-40C8-8D90-AFDB939B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211-88EA-4C8B-8185-F5ED97CD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8EE-D321-477C-B983-AC140A1F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D02-3917-49A4-9A42-C59ECAF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285-432F-4A83-9A16-2C17498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3CDA-29D5-48D5-AAE4-32874B063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n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3:16Z</dcterms:modified>
  <cp:revision>3</cp:revision>
  <dc:subject/>
  <dc:title>Words in a “Snap”</dc:title>
</cp:coreProperties>
</file>